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B4A-4637-422D-A0B2-6E3EF70A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7AD-0145-4670-BFEF-64248DFC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F7AF3-B3D4-4B17-9651-76F15CF6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D896D-A3F3-45A3-A3AA-AADA13F6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4A126-2A65-4B74-A520-71E37357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C4F49-9CAC-4A5F-A1BD-9982636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68CA9-5B19-4B9B-8F5A-C6D2966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66BAA-B2BE-432B-98EB-B3548E4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93CDB-BD2C-44D1-B9A2-34327A48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58D37-FD7B-4082-B413-BB3E407F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BFEE2-A96C-4979-A0A6-DDBFCC5F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79A61-2449-43D6-A3EC-2FC24937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5E5-5303-4F3B-B52D-E36FEF5F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DBE51-B8A9-4CB8-91FA-B226A2D0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4EA31-4DA6-4BCD-B468-0158D34A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C0C52-26F5-40A1-B821-AB9B15D2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C45B6-588E-4878-95B3-E6070E27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C28F8-C850-44FF-B0BB-52A4954E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F3F3B-240D-4E4E-AB45-B943BE7C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A92C4-E8E1-4FE9-8E61-02421A5B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88D36-6039-4C7B-81ED-C3F84835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BD449-1AD1-4622-AD79-B7902EFC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79B63-0AFA-484C-A3C5-87968106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55B-6AF4-46F3-BA55-39707B8C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9FE7B-D830-46E2-A0D1-FA73BDB7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DBAE0-D152-4956-801F-6C4E2D03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62924-9A56-4184-BF0D-B3C60374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C6DA4-6D7D-49FE-AD10-53FF81B1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55FA6-1F92-4DF6-A6B4-8F404E04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DF0FC-5436-4C18-A4A3-C46BCAB1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E4B2F-45CB-4B85-88BE-03E1C8F0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7B449-9E21-47E2-9BB5-6DA5054E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00FD8-E68D-445D-97D3-64208557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DFB8E-76E9-4780-80FF-313E90B7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F0EE-0C98-4273-BA6C-C952F335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49BD6-84E7-4ED4-B5D3-5841B981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540B8-8A80-44F7-B9BE-F0942EDF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792F0-32E7-4CB5-84CB-5134604E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F0353-EC91-481D-9900-0FA895B1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7E019-18D8-455F-BCF6-F40757F8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6C27B-A377-4310-930B-1C2CB7D7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CE1DC-795F-4333-A861-6B183F10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D79EE-6115-4749-A6C9-6999D4F3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4939A-C3BD-4695-9E54-6D0785C3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70577-B052-4405-8FD3-CB6EAF3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BF00-7F9A-4D17-ABA5-20AF5C6A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48213-326B-4C6E-B56B-A348611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5894A-C3E7-4BE5-90A9-13253A39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0B597-9F8A-4836-8884-746CE9D3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5F6ED-82EF-4723-95F2-B16F7BDC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0953A-6520-4974-8D87-DB7010AD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85A69-9EC7-44AF-BDC5-64E7BB18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24477-D100-41E0-9187-7AD40ED5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4BE21-9849-4F6A-B55A-1011F98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45782-6D09-4D70-AA27-0A9905AE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DED96-8971-42E6-B5A4-16F1AA79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235A-67CF-4544-BB02-7887934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5AA58-2A48-45BD-959E-82D36DEB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73B8C-69C1-480A-9366-51F3F5A2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18550-86D0-49A0-9773-93DD09AE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18129-F981-4664-A290-E1714B3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4E97F-A542-4BDA-811D-7216E93C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67327-4647-4B7E-92A2-E7DEAD72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DB197-33F5-4471-8C7A-EF32AF2F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340A4-742F-4B54-ACC9-9585DE91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49EFB-D111-4F2F-8563-3ECA64CA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393CF-1049-4F7E-A53C-149F8ACB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60E-5DF3-4E41-9C0E-ED2CE2CA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2859C-265A-44C5-8C5C-F933416D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F0259-C5B7-4877-8B83-8F807274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2823F-16F9-4D49-B9D9-7CD6A3E5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953E0-AAA0-4E83-9965-9F50CB38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56E5A-8674-47D2-A804-2F7268AC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5C5F6-3F50-4E05-B5E0-ED07B82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2D634-8A6B-4093-9F00-67C4D74C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0B394-F9FF-45CA-872E-7E6BA395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822F8-6AED-4942-A119-8F857D98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8B684-242B-4AE1-96C5-532CA5BA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AB79-40AB-437A-A213-0D682DAD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E71E3-39D9-474C-9BB3-386CADC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9510C-DF33-41A6-BD33-E86CF344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4AE3D-4B0D-4CED-B451-D93BAC00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814EB7-8D24-4B6C-80C7-87A002AB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4399E-420D-431F-A322-BCF700DA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A114B-E69E-40F2-9725-F1BA722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206DC4-48C0-4F89-AEEB-9AFFCB9B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76F1E-58AA-4F27-991E-3C09905F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CE81A-1EE5-47ED-B20A-09929B0A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DADFF-9505-4125-90F1-4E4FD45D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A328-B369-43AC-89DA-E57A4597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0B554-D3C1-45F8-9743-FF3813C9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F561E-A4E8-459E-B7A3-D2C6BDBB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9E47B-981B-4274-895C-6FF54428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55962-CB48-41E0-8080-F893AFD9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17034-2438-4B59-BD04-054455B4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2D0187-719A-4F62-A797-4041DAF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095E4-9537-49B1-9D04-A68F2406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B7BE1-21D1-46DD-BAFE-EB844042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2841D-7CB7-41D3-AF26-EBBFAA41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3B035-03D8-4776-A3D4-3E50D808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FB48-7527-415E-B005-C2168160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01020-0575-4241-987E-3821DCCC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D469B-257A-428E-9DF7-2B15480A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DBEA4-4241-4A88-9249-269198E7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3503C-C632-4F33-98C7-2DDB642F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B2F09-E2B7-471B-97DA-15938911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3685C-DC5F-4A4E-A823-CE3D5264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586A8-D299-49CD-83B2-4379DA5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0BB1B-66C5-4C31-982A-36828F1E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52D9B2-16AA-47D6-A06A-3EA4608A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9A4CC-EA82-4FB6-8A2A-A5F88217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514-75B4-4F95-B32E-1A3AE55D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8238-3490-4FC4-B04F-44D8AA69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B989F-4CA1-45E0-89D8-BF8C1137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3A148-17BB-4B93-9250-6A383577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7388E-6A75-4C4E-806D-C46846CF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A0152-B129-4ED3-A34E-4E3EB13C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2A5553-DA83-4C8B-B9CE-DF9F9020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13200-D996-4E52-B98C-C6E685D1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B8987-4BF5-42F1-881C-13848F23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D7319-C02B-4E03-961E-FB14981A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58B3B-3138-4EB3-A280-80E6DDB8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67815-D1F9-4DEC-A5DF-4CF4BC9D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22CC-7256-43D9-894D-74CD944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065DC-96D1-4992-8D3C-0FF95CA9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A60AB-3432-478F-B50C-7CDC3C5E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C770A-C04C-4C8F-AB90-68C5D3A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A9787-5621-40E5-986D-F1BE068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FA31E-6B31-4C8D-85B4-B8282072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427EC-4CBD-4ED5-A5ED-D5BA6A4B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9E058-FF5E-4B5D-9093-B4882445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A8AC5-5B0A-4DC8-8F92-43D3A5AB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EAEE22-9E7E-4DF9-B934-4FE875FC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FFF24-0405-4875-906C-3B00464E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A3C7-DBFF-4259-8B3F-F95D45E3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696D1-1B9A-4458-980C-5EB5F8FA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CE2BE-32DA-494F-8B81-421984F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6D3D53-4D7C-49DE-B6A3-E31F8175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DE0C11-C1A0-4C04-845B-8A9891F4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194EE-EA0A-4ABD-9E18-71C9119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A3F0E-98F4-40AD-9BC3-2FBD2F7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36B4CA-9999-47CC-8FEE-C8763A9C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03FEF-14E1-4C71-A7EE-651373BA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66E12-8877-441C-8A48-14729B86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EF94B-9C22-42D8-9066-0C3689BB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20FB-75D5-4D71-B199-A92704D6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D9DCF-3889-42FC-BABB-99226CDB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162B5C-4B3E-4E73-B2A9-312195C2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CE8DB-D3FA-4DCE-A259-0DA4DC7E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AFE4B0-E71C-49CF-8BB9-DAE0C45B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921D2-ACB5-4C06-B018-61EC8A35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FD263-48E1-48DA-A748-C374127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C4145-BDE2-4F74-897D-341073F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5D3F4-583F-4251-A4B3-D4AB2C41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5BA72-3368-4A43-8BA2-EE39D449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A42923-6F73-4F80-B34C-6B984B04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1CA6-929E-45CA-B132-925B4256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E279B-7D90-4425-B18D-4B81E161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EA6BD5-8E29-43F7-87A2-CC9360CF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62917-D068-404B-B9E6-A7A5F7D1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946FDE-EDE1-49C1-92BA-9120BA1C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AD571-8B3D-443E-825D-3C2F859B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8AC42-799C-47AE-9248-B313C9FA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DF5DA5-C626-425F-AC90-B4DB365E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E30521-6867-49A6-948F-A31537FC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79891-5FA6-4061-AC47-17A397F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FC8C2-30A2-4519-A1FC-66D0F54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5FDC-E21E-42B1-A0F7-7660AAC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B3A85B-C3E2-42CE-8DBB-E9FA1E19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BF2A4-F997-417C-A83D-5EF87604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28905-C362-46EE-8F14-8FF1CBAB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936E-5E40-4EFE-9CF4-761E3E62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2555-2994-4ACA-9BF3-2697C1E0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DEB2-D73E-4CD5-851E-179A3A6E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21CE-2275-4525-A2FF-285B844F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30A-8D63-4748-8C34-72D3EE27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F866-0B3B-48F4-BFED-D5ED63A0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54CA-26B3-4470-BE76-0F16A3C1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F9BD-7E63-41E6-914E-BF2D1D7D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3EE2-532A-4C34-96B1-80F5AE8F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4B3C-B16E-4F13-B0D8-6B4B4062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286D-DF8A-426A-9FD2-34585FB6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88CA7-7930-47EE-BA82-8F027612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894CA-31E3-4568-B8AD-AC990F25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BA51-493E-4636-B5D3-38E3C214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BB86-9B47-4833-A71B-8EB0923E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F44-1879-4F8B-A27B-0A4E87D5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2B2A9-4322-4101-802A-EAA7034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7875-BE38-4B54-901B-367749FA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87A7C-FE98-471B-91AF-CA39D03C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C105-4420-4B29-8978-93636C75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2A28-330F-47E9-B3CB-82A1901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009C-F365-41AB-8ACC-E5155E3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2EF1-E51A-4B51-A70E-6386700F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F0662-6E75-42DD-B8E7-364D304F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BC4C-1045-45EC-A5D7-0CA7B7B3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B9EAA-73DB-416F-8A86-45FEE196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13E-AEFE-4F5F-B87A-889EA1D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FF7C5-5BA8-4F36-9121-4B31DA18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5ED24-F2E2-440A-B908-E6CAF424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3186-FE77-424A-9F8A-D2E55A9E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BCBCC-130C-4E13-BD90-A80E36A9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14DB3-4DE5-4C26-9C80-D07E2BF7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E13E-D16A-4E8D-B460-7304E1AF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9A1B-21E9-448E-9BEC-F0316FF8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54734-D201-4E17-9664-E2D4F69E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CAC59-C704-4771-B2AD-5344DE7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9873-4C88-47AA-BE3F-F241D2F7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E2B-2D60-4765-9328-E630B85F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07F3E-B059-4DA2-9B38-AEACF1CC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B5AD-1A9F-4254-934F-DB0C7EF1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9A962-9469-44C0-AC74-371DA98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21093-1237-4C44-8032-C1414DCA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F905A-ECD0-46A3-9DF2-46C94C4B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7C680-68B9-4F19-99EB-B022F9EC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23B5-2619-4548-A135-47FA196C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35040-6FBC-4DDB-9354-E6AD76DF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D3A75-50F0-49C7-AEB8-9928AC7D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72405-97EC-447D-A491-5B3A4009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39C-3889-4A1E-85C1-D1113381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4F414-C0A9-434A-AE87-1A15A91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F0E6F-0BCD-4E9A-AD76-9D70E07B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72347-49DB-41BF-B287-FDA86DA3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34057-85F6-482A-A4D4-97CACC5E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C56BD-4DD9-40BA-B5B2-9313E7C1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00291-71E2-4C37-866D-1C284D3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4AF3-C706-4CE3-AC60-72CD9011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CFBEE-EE7F-4E65-AFDA-A8CED89C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283B4-C048-462B-92A2-C9D5237A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A0A61-2A31-49A6-B999-4790D83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CCB-FFBD-4A34-93D2-9D57576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F4648-87AE-46DD-A697-5E3A911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B0FB-6DF8-4CED-A1F8-CA845C06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DA7EA-46D8-49DE-94FB-95407768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E6D28-230B-4622-8760-6648B207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6FA00-F6CC-4084-B490-8AEDB940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1FBB-A513-4519-85EF-DBAE0CEF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3EFE5-760D-42EE-850D-3A564F35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7577E-3B80-4690-BA44-CA806A8D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FB57B-D783-4BE2-AF09-EC34904A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0859-B526-4FE3-A58B-C8613BF6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0B3-937E-4FEE-AB22-F47412C7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E30EA-166A-432A-B13E-DB7094CB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7A067-602A-401D-AA1B-C563D18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6B4B3-CE97-435F-832C-6667D9CC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9A81C-789A-452E-80EC-D9B40F4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8ED05-ED76-4ED2-A2C1-C4C40DCB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6D79A-785E-48FD-BA75-C683DE67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C5A40-F51A-47EB-9AFB-69D6CF00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A45F4-E40E-41FB-B650-5A4E3EB4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A23EF-C2B7-4592-91F3-9ED7FEBF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978F8-FA56-47D5-BF42-DE2CE11D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87C5-4880-48AB-8627-F429817D25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E92E-7CEF-46B2-A7C8-EE4518A287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2E80-6573-441F-89CC-8B477006AF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076-A0A6-4EF1-BD6C-1F73422F86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F093-732E-4598-B2B8-1CECCA210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22C3-EDC1-415F-8686-BCACA89D10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8AD2-8929-4314-A563-40E22300C4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9C52-AFBB-4DDB-8513-47112B37CF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60C7-3499-471F-AFB3-49764666BB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4ACE-D389-4B5F-9F7B-8D36491AB8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D1D5-A136-4281-8BD4-580130EFE8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2668-63D0-4663-AA5A-AE78372B30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500B-49B6-48B3-A750-5FBC81E5F7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2536-CB43-41BF-B2C4-8DE11BB042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690F-F85B-471A-83A3-F8F1619EB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9721-B90F-42B5-8964-019A4D0A5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FB8-F727-4E07-8C74-C9FA34780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AC13-66B2-4FA4-9A91-8CDF383CF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3784-131B-4AD3-B6FE-116712F8EE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2637-AF79-4583-8224-1A3E578670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DB88-6FF3-42A5-99D3-3508FE00A9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EBCF-086D-4653-9D84-A55F4E2F84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4925-4AFE-4C67-93C3-94E3E638A3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2E94-7F63-4CA2-98F7-9CBF200DD6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9E1E-A81D-48D7-A88D-EA99D729BE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7BED-A6AE-4276-A12D-F7142D06CD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0245-FF86-48C5-864B-DAA7078C4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0AE6-E90A-4A1C-8D5B-1162D8A63C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7212-FE07-49DF-9C57-46FB540869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D3A3-0AF6-46E3-869E-81F4DCE181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391B-A646-4C2F-A73E-9F70511627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F5FA-4D0E-4C8D-9E64-25AF2EC58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58E8-0FDE-4675-975C-46DDAC15E3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BE5D-BA04-4F72-998F-36496C1CE1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FA6E-BD49-4798-AB3E-CA07FED295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6E61-3F06-4A02-9661-FB15D63E68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01D1-D423-4701-A8B3-9A7160DD8B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B295-8F90-4806-8A22-DFE5ACB62A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A284-5DFA-46C5-AC2F-4E30748B1D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AEB4-49F4-4A57-B780-F05A59C71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28760" y="1816200"/>
            <a:ext cx="4686480" cy="11811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295280" y="3387600"/>
            <a:ext cx="65534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500040" y="939960"/>
            <a:ext cx="8143920" cy="5153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5292720" y="177336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5364000" y="256536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5292720" y="335772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5292720" y="407664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5219640" y="479736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1187280" y="5589720"/>
            <a:ext cx="59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52560" y="1147680"/>
            <a:ext cx="9038880" cy="4562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5796000" y="3645000"/>
            <a:ext cx="21607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659640" y="4422600"/>
            <a:ext cx="18000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732720" y="515772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8229600" cy="4486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124000" y="20606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3492360" y="2852640"/>
            <a:ext cx="208764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4859280" y="4408560"/>
            <a:ext cx="208764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1619280" y="5156280"/>
            <a:ext cx="5257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385920" y="1371600"/>
            <a:ext cx="8372160" cy="4114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6588000" y="149868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2124000" y="227664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1547640" y="40622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1835280" y="494172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组合 57354"/>
          <p:cNvGrpSpPr/>
          <p:nvPr/>
        </p:nvGrpSpPr>
        <p:grpSpPr>
          <a:xfrm>
            <a:off x="34920" y="115920"/>
            <a:ext cx="9039240" cy="6700680"/>
            <a:chOff x="34920" y="115920"/>
            <a:chExt cx="9039240" cy="6700680"/>
          </a:xfrm>
        </p:grpSpPr>
        <p:pic>
          <p:nvPicPr>
            <p:cNvPr id="940" name="图片 57352" descr=""/>
            <p:cNvPicPr/>
            <p:nvPr/>
          </p:nvPicPr>
          <p:blipFill>
            <a:blip r:embed="rId1"/>
            <a:stretch/>
          </p:blipFill>
          <p:spPr>
            <a:xfrm>
              <a:off x="34920" y="115920"/>
              <a:ext cx="9039240" cy="53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图片 57353" descr=""/>
            <p:cNvPicPr/>
            <p:nvPr/>
          </p:nvPicPr>
          <p:blipFill>
            <a:blip r:embed="rId2"/>
            <a:stretch/>
          </p:blipFill>
          <p:spPr>
            <a:xfrm>
              <a:off x="711360" y="5445000"/>
              <a:ext cx="818172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81200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774072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7740720" y="4941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7696080" y="63388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195120" y="2000160"/>
            <a:ext cx="8753760" cy="28576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234000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6673680" y="31989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2325600" y="41925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6659640" y="417816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85680" y="752400"/>
            <a:ext cx="8972640" cy="5353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2771640" y="32558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2556000" y="5516640"/>
            <a:ext cx="345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4276" descr=""/>
          <p:cNvPicPr/>
          <p:nvPr/>
        </p:nvPicPr>
        <p:blipFill>
          <a:blip r:embed="rId1"/>
          <a:stretch/>
        </p:blipFill>
        <p:spPr>
          <a:xfrm>
            <a:off x="133200" y="746280"/>
            <a:ext cx="8877600" cy="60674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20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5867280" y="3213000"/>
            <a:ext cx="151308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2771640" y="4724280"/>
            <a:ext cx="230508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6084720" y="472428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2627280" y="6237360"/>
            <a:ext cx="230508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5796000" y="623736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142920" y="1152360"/>
            <a:ext cx="8858160" cy="4553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4284720" y="2895480"/>
            <a:ext cx="25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1908000" y="36590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859280" y="4408560"/>
            <a:ext cx="259236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1908000" y="5157720"/>
            <a:ext cx="187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09:1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